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559-9EF3-4C15-8218-967B7697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09320" y="353484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1FDC-6F3F-417B-A480-5B77CC4C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628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243-1EB7-448C-BA96-1578B29F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5104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240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0932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5104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240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A14-6485-4200-9985-A23DA893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1D01-7C62-4902-B062-6D97D801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B54D-F486-4A17-A0CB-96651005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F221-C506-4799-804C-55CDD96D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973E-3D1A-4A64-A3EE-583458B2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69CA-2FD1-468E-9771-2626D658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BA7B-48A2-47FD-B13C-583E10AD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5BF5-F1C8-4776-A332-513160E8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512-D8DA-46C4-AFCF-7FB90C2F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0628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62CE-C80E-466E-9EC7-7EB91E48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63E9-CD54-4B15-B6FB-9063E875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09320" y="353484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3159-569A-4B56-931F-0C41DA80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0628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BA0D-56F0-491E-866C-996D2924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5104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9240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0932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5104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9240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2B8B-7E07-49AE-928F-9D752825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DE9-5057-4535-BE6A-490A1640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E05-5316-4D50-A732-C21068D9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7D7-3BB3-4EFA-908D-BF252341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2246-E9FB-4342-B920-86F0E1BC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AF7F-FC2F-4926-B557-70297D07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628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616-725B-40C5-8AE7-AF7A9B30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B1A7-D44A-4094-AD87-482F1634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4578-6C6D-451B-9803-1BD3A6B9A46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720" y="2438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Impact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9D14-4CA8-4653-97B7-C06CB386E4E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5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66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66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76720" y="2438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Basic Shape Patterns</a:t>
            </a: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85840" y="3580920"/>
            <a:ext cx="5257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Heart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2438280"/>
            <a:ext cx="4038840" cy="3200400"/>
          </a:xfrm>
          <a:custGeom>
            <a:avLst/>
            <a:gdLst>
              <a:gd name="textAreaLeft" fmla="*/ 948960 w 4038840"/>
              <a:gd name="textAreaRight" fmla="*/ 3087000 w 4038840"/>
              <a:gd name="textAreaTop" fmla="*/ 376200 h 3200400"/>
              <a:gd name="textAreaBottom" fmla="*/ 2007360 h 3200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Arrow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2971800"/>
            <a:ext cx="4419720" cy="1905120"/>
          </a:xfrm>
          <a:prstGeom prst="rightArrow">
            <a:avLst>
              <a:gd name="adj1" fmla="val 50000"/>
              <a:gd name="adj2" fmla="val 57998"/>
            </a:avLst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Crescent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1905120"/>
            <a:ext cx="2286000" cy="380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Cylinder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133720"/>
            <a:ext cx="2514600" cy="3657600"/>
          </a:xfrm>
          <a:prstGeom prst="can">
            <a:avLst>
              <a:gd name="adj" fmla="val 25000"/>
            </a:avLst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Cone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909880" y="1693800"/>
          <a:ext cx="3324240" cy="34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09880" y="1693800"/>
                    <a:ext cx="332424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Pyramid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1981080"/>
            <a:ext cx="3429000" cy="3276720"/>
          </a:xfrm>
          <a:prstGeom prst="triangle">
            <a:avLst>
              <a:gd name="adj" fmla="val 50000"/>
            </a:avLst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Circle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1447920"/>
            <a:ext cx="3886200" cy="3886200"/>
          </a:xfrm>
          <a:prstGeom prst="ellipse">
            <a:avLst/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quare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1447920"/>
            <a:ext cx="4114800" cy="4114800"/>
          </a:xfrm>
          <a:prstGeom prst="rect">
            <a:avLst/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Rectangle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2133720"/>
            <a:ext cx="5486400" cy="3124080"/>
          </a:xfrm>
          <a:prstGeom prst="rect">
            <a:avLst/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Triangle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1219320"/>
            <a:ext cx="4419360" cy="3822480"/>
          </a:xfrm>
          <a:prstGeom prst="triangle">
            <a:avLst>
              <a:gd name="adj" fmla="val 50000"/>
            </a:avLst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Oval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2514600"/>
            <a:ext cx="4800600" cy="2895480"/>
          </a:xfrm>
          <a:prstGeom prst="ellipse">
            <a:avLst/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Pentagon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1981080"/>
            <a:ext cx="3200400" cy="3429000"/>
          </a:xfrm>
          <a:prstGeom prst="pentagon">
            <a:avLst/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Hexagon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1981080"/>
            <a:ext cx="3352680" cy="35053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ar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1447920"/>
            <a:ext cx="4191120" cy="3733560"/>
          </a:xfrm>
          <a:prstGeom prst="star5">
            <a:avLst/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7:17:06Z</dcterms:created>
  <dc:creator>prussell</dc:creator>
  <dc:description/>
  <dc:language>en-US</dc:language>
  <cp:lastModifiedBy>Alice A Adams</cp:lastModifiedBy>
  <dcterms:modified xsi:type="dcterms:W3CDTF">2009-06-25T01:25:03Z</dcterms:modified>
  <cp:revision>10</cp:revision>
  <dc:subject/>
  <dc:title>Basic Shape Patterns</dc:title>
</cp:coreProperties>
</file>